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11052"/>
        <c:axId val="34516741"/>
      </c:barChart>
      <c:catAx>
        <c:axId val="15911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16741"/>
        <c:crosses val="autoZero"/>
        <c:auto val="1"/>
        <c:lblAlgn val="ctr"/>
        <c:lblOffset val="100"/>
        <c:noMultiLvlLbl val="0"/>
      </c:catAx>
      <c:valAx>
        <c:axId val="34516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11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EC8-83E6-4B5B-8660-DA4EF8BF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1FD-DC3F-4EB7-BAE8-0B11995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D07-29F2-4E25-92A0-5DCE34AE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1E6-472A-45E2-8AD0-2230896F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F4C-D023-4EA6-9C51-7DAF1CB0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155-3895-4C14-A6B5-2FBB9F56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86F-2399-4E01-94D1-56191834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349-3958-492A-8A3E-681B517F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ACC-9479-4BA1-B080-D4F811CE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450-9E3D-4CA5-A1A7-09B22BDA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67C-23A6-42C8-BBE1-12759A01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D18-55A6-4A75-BD66-05564453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17545-22B1-4422-9572-E05E1A529A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