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16684"/>
        <c:axId val="92647846"/>
      </c:barChart>
      <c:catAx>
        <c:axId val="93516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47846"/>
        <c:crosses val="autoZero"/>
        <c:auto val="1"/>
        <c:lblAlgn val="ctr"/>
        <c:lblOffset val="100"/>
        <c:noMultiLvlLbl val="0"/>
      </c:catAx>
      <c:valAx>
        <c:axId val="92647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16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318-62B0-428B-9AC2-C6DC2C75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31B-D089-4540-86DD-95C043D7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343-1DB3-4778-955E-FC15CD67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4C0-D8CD-4F5A-B615-2614ACF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C3B-8304-4D8C-B5BF-31A11D7C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36C-55BB-47AD-8E44-6C95BD9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DB7-8C1F-4516-81EB-91D69F74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61E-3980-483A-ABB7-B4456561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9DE-E732-48A7-8852-F4062F42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61B-9380-4311-BF12-55DA1B6A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AFF-ACF8-43EF-89D4-C9C940A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0CE-D630-4908-9BE7-05F5CF5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5C61C-F3F5-4A6A-B5AB-7DF5E4F052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