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07661"/>
        <c:axId val="5174498"/>
      </c:barChart>
      <c:catAx>
        <c:axId val="19507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4498"/>
        <c:crosses val="autoZero"/>
        <c:auto val="1"/>
        <c:lblAlgn val="ctr"/>
        <c:lblOffset val="100"/>
        <c:noMultiLvlLbl val="0"/>
      </c:catAx>
      <c:valAx>
        <c:axId val="5174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07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AB8-7E8C-4714-BB59-4460961E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144-A118-489B-88A0-B6BEB45A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A8F-4524-474E-9828-ABA65992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6EF-435B-435C-9D18-9A44CDC1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524-3605-47CD-A104-36C266B9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ACA-FD0E-487F-A545-6832495C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A5F-E822-4571-9FB5-D3E8E733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C8A-DD1C-4262-8425-62CB4156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3F8-6490-4E81-B605-E478A520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409-DC54-4CC2-B189-388DC228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08A-8144-4B06-859F-CD727F95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49D-E978-41A7-BB6B-D2E571D9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721F3-EFB4-4B05-B1AB-8496C20098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