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950090"/>
        <c:axId val="54287564"/>
      </c:barChart>
      <c:catAx>
        <c:axId val="289500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287564"/>
        <c:crosses val="autoZero"/>
        <c:auto val="1"/>
        <c:lblAlgn val="ctr"/>
        <c:lblOffset val="100"/>
        <c:noMultiLvlLbl val="0"/>
      </c:catAx>
      <c:valAx>
        <c:axId val="542875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500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E39E-25C8-4DDC-A549-ABF889C32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92F9-8B94-4AAE-B63C-00428F99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570D-F22A-40F1-9959-8DD9B57F7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CB26-5621-4EC9-B119-400936E5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146B-16F5-4F05-A939-872EED6B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2E3B-AD99-46F8-A761-E1AAD7E3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0B13-9C62-4E61-AB16-ED7B4FB2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8060-E90B-4B3B-AD07-A627CAAA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EE1A-67D2-4875-AADD-65EEEB75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44E0-EEAE-4760-ACF2-FA264B40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1EBD-7698-45C4-8378-6C6E3D85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B0FE-5041-46A0-80CE-7582FF14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E07B3-54FF-4164-BAAD-C8955299A3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