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0760"/>
        <c:axId val="52280352"/>
      </c:barChart>
      <c:catAx>
        <c:axId val="6710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80352"/>
        <c:crosses val="autoZero"/>
        <c:auto val="1"/>
        <c:lblAlgn val="ctr"/>
        <c:lblOffset val="100"/>
        <c:noMultiLvlLbl val="0"/>
      </c:catAx>
      <c:valAx>
        <c:axId val="52280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0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D91-A5FD-4AC3-910E-982480E6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18E-B1F5-40B0-A387-2CF416DF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BC2-EB14-499A-8A55-E17AD5F6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193-B136-47C1-A576-062B2DEE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666-3C3F-4B1E-BE0C-85C2B84D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E45-E15F-4D80-99EE-66FD8EED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038-2F23-4379-8763-E2DEA35A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009-07E1-4103-9E41-79459805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2CE-27CE-433C-9C0F-50EDD3A1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44F-C1E7-4C1E-945A-94738569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018-05DF-4C45-A74A-EBB1756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587-D6C2-4FFD-890E-C44AD460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A1354-BF50-47ED-BFDA-0EB957F207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